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CD5-E45C-4149-AFF4-E0684A5C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FB0-7325-41D9-A060-B2725765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E22E-EAC8-41C3-B43D-29AD4E54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03B-AAEB-47F4-ACE7-4C9441B0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06D9-7F0D-4516-9A0B-2156A071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84D-ED7E-4997-8EBE-ED47B1B3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4E7-1BBC-4AE3-BC45-D5823526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8331-C000-499A-97F9-B8F602B3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DAF-2906-4F2D-B247-758E56F2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89D9-6ABE-4588-BDEE-C0E89653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BD7-8B19-4A1D-9969-24F65823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158-A5AC-423A-8B04-230CE964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B383-62BE-4E1A-9287-47107B0BB73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6000" spc="-1" strike="noStrike">
                <a:solidFill>
                  <a:srgbClr val="000000"/>
                </a:solidFill>
                <a:latin typeface="Calibri Light"/>
              </a:rPr>
              <a:t>REUNIÃO 2023.2 DEPARTAMENTO DE ENSINO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JETO CÍRCULOS PARA DESPERTAR: ATENDIMENTOS DA MONITORIA EM 2002.2 E 2023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O projeto Círculos para Despertar nasceu com a constatação de que o ensino presencial t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suscitado novas reconfigurações evidenciadas por demandas que, especificamente, os alunos dos Cursos Técnicos Integrados,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revelaram após quase dois anos de ensino remoto e um semestre de ensino presencial, pós-pandemia, exemplificadas em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registros ocorridos no IFCE campus Caucaia no ano letivo de 2022 e que acrescentaram uma sobrecarga ao trabalho docente, como também ao dos servidores que atuam diretamente com os discentes, a saber: existência de um número significativo de estudantes com problemas de saúde mental e com dificuldades no estabelecimento das relações com os colegas e servidores; alunos apresentando intolerância a ideias divergentes e com pouca resistência às frustrações; surgimento de conflitos em sala de aula (atos de indisciplina, barulho excessivo, impaciência de alguns alunos com os ritmos diversos de aprendizagem dos colegas de turma; atitude hostil em relação às múltiplas necessidades de aprendizagem dos colegas); registros de atos de violência entre os alunos (indiferença, exclusão, bullying, intimidação verbal);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e esse cenário ganhou ainda mais complexidade quando pais/responsáveis tentaram buscar soluções para os conflitos que envolviam os seus filhos expondo a instituição em redes sociais ou por meio de atos de intimidação a servidores e outros discentes. Com isso levantamos os seguintes questionamentos: </a:t>
            </a:r>
            <a:r>
              <a:rPr b="1" lang="pt-BR" sz="1800" spc="-1" strike="noStrike" u="sng">
                <a:solidFill>
                  <a:srgbClr val="00b050"/>
                </a:solidFill>
                <a:uFillTx/>
                <a:latin typeface="Calibri"/>
              </a:rPr>
              <a:t>Como intervirmos de forma positiva para a mudança dessa realidade? Onde estão as respostas para alcançarmos esse objetivo?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A Coordenação Técnico-Pedagógica (CTP), sendo um setor que atua nos eixos do assessoramento, planejamento e avaliação e tendo como uma das suas atribuições “Elaborar projetos de intervenção pedagógica quando julgar necessário [...]”, conforme explicitado na Nota Técnica nº 003/2015/ PROEN/IFCE que define as atribuições das CTPs no IF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ada bolsista terá a tarefa de atender as demandas dos alunos que busquem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auxílio para a aprendizagem de conteúdos dos componentes curriculares de Matemática e/ou Química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o receberem as solicitações poderão auxiliar os estudantes, tanto individualmente, quanto organizando pequenos grupos para estudos, aplicando os componentes restaurativos da Comunicação Não Violenta ao efetuarem esses atendimentos, bem como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Calibri"/>
              </a:rPr>
              <a:t>efetuando os registros de todos os atendimentos em instrumental específ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Além disso, serão orientados pelos proponentes do projeto a ajudarem os alunos na apropriação de estratégias e organização de uma rotina de estudos, quando se fizer necess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ORIENTAÇÕES AOS BOLSISTAS DO PROJETO 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CÍRCULOS PARA DESPERTA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Atentar-se ao Art. 185 do Regulamento da Organização Didática do IFCE (ROD), que trata dos deveres do grupo discente, nomeadamente, o inciso VII “portar-se sempre de acordo com os princípios da ética e da moral” e inciso X “frequentar as dependências do IFCE com trajes adequados, de acordo com o regimento interno ou normas das dependências de cada campus”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Dialogar com os estudantes dos Cursos Técnicos Integrados assuntos relacionados ao suporte à apreensão dos conteúdos de Química e/ou Matemática, orientando-os a procurar os setores de atendimento ao discente (CCA, CTP, Assistência Estudantil, Coordenação do Curso, Biblioteca) quando precisarem tratar de outros assunto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Utilizar a biblioteca e os espaços das áreas de convivência para realizar os atendimentos aos estudantes, bem como registrá-los em instrumental específic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alizar as leituras indicadas e participar dos Círculos de Construção de Paz promovidos pelos coordenadores do projeto e que acontecerão dentro da carga horária de trabalho semanal (12 hora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Reservar 02 horas semanais para estudos, objetivando a melhoria dos atendimentos (revisão de conteúdos que os estudantes dos Cursos Técnicos Integrados estejam estudando e realizar pesquisas para sanar dúvidas apresentadas pelos aluno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: SETEMBRO E OUTUBRO DE 2022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0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Calibri Light"/>
              </a:rPr>
              <a:t>ATENDIMENTOS EM NÚMERO ABRIL A MAIO DE 202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Espaço Reservado para Conteúdo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Espaço Reservado para Conteúd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6-22T18:40:59Z</dcterms:created>
  <dc:creator>CTP02</dc:creator>
  <dc:description/>
  <dc:language>en-US</dc:language>
  <cp:lastModifiedBy>Reginaldo</cp:lastModifiedBy>
  <dcterms:modified xsi:type="dcterms:W3CDTF">2023-07-17T17:11:03Z</dcterms:modified>
  <cp:revision>8</cp:revision>
  <dc:subject/>
  <dc:title>Apresentação do PowerPoint</dc:title>
</cp:coreProperties>
</file>