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6CE-0C5B-4951-B71B-919A3C8E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256-A800-4334-B505-AD858F39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D45F-B038-4CCC-AEA4-6972097E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2F5-3A09-43D0-AC88-B09CFFC6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960-9F7C-4198-9665-BB06FDC5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627-5260-4243-B035-9008CD37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D9E-1BAF-4797-B2CE-5F192DEE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14F-0E88-464E-99C2-895437D9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A2CA-BCE2-4B25-A56F-ED9D1F60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DD0-153C-4093-8C94-A9595B05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889-565B-4F00-AB8F-ABC74B06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EE4-4EA6-482E-9F58-65481214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8E71-4EF1-4174-8902-E15ACE6DC7F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Calibri Light"/>
              </a:rPr>
              <a:t>REUNIÃO 2023.2 DEPARTAMENTO DE ENSINO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JETO CÍRCULOS PARA DESPERTAR: ATENDIMENTOS DA MONITORIA EM 2002.2 E 2023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 projeto Círculos para Despertar nasceu com a constatação de que o ensino presencial tem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suscitado novas reconfigurações evidenciadas por demandas que, especificamente, os alunos dos Cursos Técnicos Integrados,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revelaram após quase dois anos de ensino remoto e um semestre de ensino presencial, pós-pandemia, exemplificadas em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registros ocorridos no IFCE campus Caucaia no ano letivo de 2022 e que acrescentaram uma sobrecarga ao trabalho docente, como também ao dos servidores que atuam diretamente com os discentes, a saber: existência de um número significativo de estudantes com problemas de saúde mental e com dificuldades no estabelecimento das relações com os colegas e servidores; alunos apresentando intolerância a ideias divergentes e com pouca resistência às frustrações; surgimento de conflitos em sala de aula (atos de indisciplina, barulho excessivo, impaciência de alguns alunos com os ritmos diversos de aprendizagem dos colegas de turma; atitude hostil em relação às múltiplas necessidades de aprendizagem dos colegas); registros de atos de violência entre os alunos (indiferença, exclusão, bullying, intimidação verbal)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 esse cenário ganhou ainda mais complexidade quando pais/responsáveis tentaram buscar soluções para os conflitos que envolviam os seus filhos expondo a instituição em redes sociais ou por meio de atos de intimidação a servidores e outros discentes. Com isso levantamos os seguintes questionamentos: </a:t>
            </a:r>
            <a:r>
              <a:rPr b="1" lang="pt-BR" sz="1800" spc="-1" strike="noStrike" u="sng">
                <a:solidFill>
                  <a:srgbClr val="00b050"/>
                </a:solidFill>
                <a:uFillTx/>
                <a:latin typeface="Calibri"/>
              </a:rPr>
              <a:t>Como intervirmos de forma positiva para a mudança dessa realidade? Onde estão as respostas para alcançarmos esse objetivo?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Coordenação Técnico-Pedagógica (CTP), sendo um setor que atua nos eixos do assessoramento, planejamento e avaliação e tendo como uma das suas atribuições “Elaborar projetos de intervenção pedagógica quando julgar necessário [...]”, conforme explicitado na Nota Técnica nº 003/2015/ PROEN/IFCE que define as atribuições das CTPs no IF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ada bolsista terá a tarefa de atender as demandas dos alunos que busquem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auxílio para a aprendizagem de conteúdos dos componentes curriculares de Matemática e/ou Química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Ao receberem as solicitações poderão auxiliar os estudantes, tanto individualmente, quanto organizando pequenos grupos para estudos, aplicando os componentes restaurativos da Comunicação Não Violenta ao efetuarem esses atendimentos, bem como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efetuando os registros de todos os atendimentos em instrumental específic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Além disso, serão orientados pelos proponentes do projeto a ajudarem os alunos na apropriação de estratégias e organização de uma rotina de estudos, quando se fizer necessá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ORIENTAÇÕES AOS BOLSISTAS DO PROJETO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CÍRCULOS PARA DESPERTA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Atentar-se ao Art. 185 do Regulamento da Organização Didática do IFCE (ROD), que trata dos deveres do grupo discente, nomeadamente, o inciso VII “portar-se sempre de acordo com os princípios da ética e da moral” e inciso X “frequentar as dependências do IFCE com trajes adequados, de acordo com o regimento interno ou normas das dependências de cada campus”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Dialogar com os estudantes dos Cursos Técnicos Integrados assuntos relacionados ao suporte à apreensão dos conteúdos de Química e/ou Matemática, orientando-os a procurar os setores de atendimento ao discente (CCA, CTP, Assistência Estudantil, Coordenação do Curso, Biblioteca) quando precisarem tratar de outros assunto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Utilizar a biblioteca e os espaços das áreas de convivência para realizar os atendimentos aos estudantes, bem como registrá-los em instrumental específico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Realizar as leituras indicadas e participar dos Círculos de Construção de Paz promovidos pelos coordenadores do projeto e que acontecerão dentro da carga horária de trabalho semanal (12 horas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Reservar 02 horas semanais para estudos, objetivando a melhoria dos atendimentos (revisão de conteúdos que os estudantes dos Cursos Técnicos Integrados estejam estudando e realizar pesquisas para sanar dúvidas apresentadas pelos alunos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ATENDIMENTOS EM NÚMERO: SETEMBRO E OUTUBRO DE 202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0" name="Espaço Reservado para Conteúdo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Espaço Reservado para Conteúd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ATENDIMENTOS EM NÚMERO ABRIL A MAIO DE 202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3" name="Espaço Reservado para Conteúdo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Espaço Reservado para Conteúd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22T18:40:59Z</dcterms:created>
  <dc:creator>CTP02</dc:creator>
  <dc:description/>
  <dc:language>en-US</dc:language>
  <cp:lastModifiedBy>Reginaldo</cp:lastModifiedBy>
  <dcterms:modified xsi:type="dcterms:W3CDTF">2023-07-17T17:11:03Z</dcterms:modified>
  <cp:revision>8</cp:revision>
  <dc:subject/>
  <dc:title>Apresentação do PowerPoint</dc:title>
</cp:coreProperties>
</file>