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374-10CA-410B-A745-63110E2A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473-5FF8-417F-8221-61BB2B7F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3F1-6FB2-4463-806C-EE511173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DB4-0573-4B80-9507-335590C9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6FE-911B-4564-A085-18AB880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447-669B-4BB0-8856-B527EE2B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ED3-F9FC-40A0-B678-714A94DD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D90-5865-40D7-BBE1-CD02059F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465-B498-4730-9889-AC99C6F2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878-41F7-48BB-8418-24716FC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F53-A0F4-4FB7-881C-8D8A334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34D-7C71-4CDA-AB7D-AAA3836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53D-7591-441F-9005-EC04A7D8CBC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REUNIÃO 2023.2 DEPARTAMENTO DE ENSINO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JETO CÍRCULOS PARA DESPERTAR: ATENDIMENTOS DA MONITORIA EM 2002.2 E 2023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rojeto Círculos para Despertar nasceu com a constatação de que o ensino presencial t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uscitado novas reconfigurações evidenciadas por demandas que, especificamente, os alunos dos Cursos Técnicos Integrados,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revelaram após quase dois anos de ensino remoto e um semestre de ensino presencial, pós-pandemia, exemplificadas 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registros ocorridos no IFCE campus Caucaia no ano letivo de 2022 e que acrescentaram uma sobrecarga ao trabalho docente, como também ao dos servidores que atuam diretamente com os discentes, a saber: existência de um número significativo de estudantes com problemas de saúde mental e com dificuldades no estabelecimento das relações com os colegas e servidores; alunos apresentando intolerância a ideias divergentes e com pouca resistência às frustrações; surgimento de conflitos em sala de aula (atos de indisciplina, barulho excessivo, impaciência de alguns alunos com os ritmos diversos de aprendizagem dos colegas de turma; atitude hostil em relação às múltiplas necessidades de aprendizagem dos colegas); registros de atos de violência entre os alunos (indiferença, exclusão, bullying, intimidação verbal)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 esse cenário ganhou ainda mais complexidade quando pais/responsáveis tentaram buscar soluções para os conflitos que envolviam os seus filhos expondo a instituição em redes sociais ou por meio de atos de intimidação a servidores e outros discentes. Com isso levantamos os seguintes questionamentos: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Calibri"/>
              </a:rPr>
              <a:t>Como intervirmos de forma positiva para a mudança dessa realidade? Onde estão as respostas para alcançarmos esse objetivo?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Coordenação Técnico-Pedagógica (CTP), sendo um setor que atua nos eixos do assessoramento, planejamento e avaliação e tendo como uma das suas atribuições “Elaborar projetos de intervenção pedagógica quando julgar necessário [...]”, conforme explicitado na Nota Técnica nº 003/2015/ PROEN/IFCE que define as atribuições das CTPs no IF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da bolsista terá a tarefa de atender as demandas dos alunos que busquem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auxílio para a aprendizagem de conteúdos dos componentes curriculares de Matemática e/ou Químic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o receberem as solicitações poderão auxiliar os estudantes, tanto individualmente, quanto organizando pequenos grupos para estudos, aplicando os componentes restaurativos da Comunicação Não Violenta ao efetuarem esses atendimentos, bem com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efetuando os registros de todos os atendimentos em instrumental específ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lém disso, serão orientados pelos proponentes do projeto a ajudarem os alunos na apropriação de estratégias e organização de uma rotina de estudos, quando se fizer necess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ORIENTAÇÕES AOS BOLSISTAS DO PROJET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ÍRCULOS PARA DESPERT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Atentar-se ao Art. 185 do Regulamento da Organização Didática do IFCE (ROD), que trata dos deveres do grupo discente, nomeadamente, o inciso VII “portar-se sempre de acordo com os princípios da ética e da moral” e inciso X “frequentar as dependências do IFCE com trajes adequados, de acordo com o regimento interno ou normas das dependências de cada campus”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Dialogar com os estudantes dos Cursos Técnicos Integrados assuntos relacionados ao suporte à apreensão dos conteúdos de Química e/ou Matemática, orientando-os a procurar os setores de atendimento ao discente (CCA, CTP, Assistência Estudantil, Coordenação do Curso, Biblioteca) quando precisarem tratar de outros assunto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Utilizar a biblioteca e os espaços das áreas de convivência para realizar os atendimentos aos estudantes, bem como registrá-los em instrumental específic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alizar as leituras indicadas e participar dos Círculos de Construção de Paz promovidos pelos coordenadores do projeto e que acontecerão dentro da carga horária de trabalho semanal (12 hora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servar 02 horas semanais para estudos, objetivando a melhoria dos atendimentos (revisão de conteúdos que os estudantes dos Cursos Técnicos Integrados estejam estudando e realizar pesquisas para sanar dúvidas apresentadas pelos aluno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: SETEMBRO E OUTUBRO DE 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0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 ABRIL A MAIO DE 202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2T18:40:59Z</dcterms:created>
  <dc:creator>CTP02</dc:creator>
  <dc:description/>
  <dc:language>en-US</dc:language>
  <cp:lastModifiedBy>Reginaldo</cp:lastModifiedBy>
  <dcterms:modified xsi:type="dcterms:W3CDTF">2023-07-17T17:11:03Z</dcterms:modified>
  <cp:revision>8</cp:revision>
  <dc:subject/>
  <dc:title>Apresentação do PowerPoint</dc:title>
</cp:coreProperties>
</file>